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B2E-ED04-48A0-AD69-BF0E08F7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EA5-B030-44FE-95B3-D9F6ECED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049-8AAC-43D1-BD09-F11E91B7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BFA-3F8E-4EDA-9C05-480DBA32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D71C-7011-483A-B590-398D044B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7C1F-0614-4452-AA56-6CEC7DB7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D48A-EE1A-43A1-81C6-DC450C79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62E8-E3CD-422F-82F2-2E020112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FE78-41FB-41F5-B262-A4FEB707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4F15-2286-413B-B457-F848910E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1051-3A08-4EB2-B50D-DA2ABE72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459-4FEB-4AAD-8170-BBDA64ED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91BD-6AA3-44FE-BCCE-0E5DDAC6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AB19-F974-4684-B8D4-681A5F7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FD21-6068-4455-BDC8-D8F36884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1733-D510-466D-8551-0E24D88A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9B29-7BC1-4EF3-BB6E-F1AAD8AE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2CB-C50A-415F-A374-CE311A0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422-AA9C-421F-AECA-14CFA9E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8B5-3D82-4D72-8E55-84BAB5D8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C0B-489B-4CBF-A29F-E37070FA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D6F-27D3-4E3D-921F-1CE557A7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A69-F447-4B96-AD67-6795EB82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588-1AB6-4B92-AD15-C2CFF742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3F49-D909-4DDC-9C69-230CB6509D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7517-82C5-411C-9753-FBACD6CA34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1066680"/>
            <a:ext cx="67816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LLI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TH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6:36:59Z</dcterms:created>
  <dc:creator>RLASD ED CENTER</dc:creator>
  <dc:description/>
  <dc:language>en-US</dc:language>
  <cp:lastModifiedBy>RLASD ED CENTER</cp:lastModifiedBy>
  <dcterms:modified xsi:type="dcterms:W3CDTF">2012-04-27T16:48:51Z</dcterms:modified>
  <cp:revision>1</cp:revision>
  <dc:subject/>
  <dc:title>PowerPoint Presentation</dc:title>
</cp:coreProperties>
</file>